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2AF-EF80-42D7-9073-D266AF00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365-F128-4B61-9FD1-E1DAB98F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28C-CA12-4619-9311-7AEA217D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D87-8133-469E-8CD9-05AF82CD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CF72-1852-421C-AD08-D2E88B3C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1C34-72D1-42D4-A3BB-B803BA3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8C3F-42DB-4733-80B8-4EC6E0CF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D73F-AB97-48EB-A079-AE8EE25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ED81-9962-4E30-850C-629EDB2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4326-01A4-4741-A637-DEB48C8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152F-CEA6-46D5-A4F0-3C40F42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E3E-4431-4657-BF91-CF241C71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5F12-E59F-4B6F-BF66-ADA66C1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9A1-99ED-40AA-BC9A-BA2535D4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D0B-52D0-4EE4-81B6-4C896332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9EC-0043-497B-A992-9F8B1FB1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33F-D2B1-40C1-B5FB-BE06A28D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EC4-CFCF-4E20-A101-2E10DBFA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29F-6802-4C1A-870E-E9B3E87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FEB-52DE-4A1A-8D1C-43AF372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2A9-7398-45E9-B2FE-D8A1E7F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05A-143F-42D6-88FF-7876124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160-20B6-4177-9617-0786D464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98E-6949-45FC-B3C3-8ABDEE7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4895-C079-4B84-8696-0ED58A104E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8A65-6D97-410B-B71A-846A3E444E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Literary Analysi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Cask of Amontillado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. Third idea (foreshadowing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examine an aspect or part of a piece of lit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explain what a piece of writing means or do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ows writer to express knowledge of literary devices and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ows writer to express an opinion and prove 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rpose/Audience/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urpose- to share, explain or convince rea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ience- the teacher/cla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ne- 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to discu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peti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reshadow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rac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age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ymbolis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gurative langu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aph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of sen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spen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wri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cus on your top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ot down ide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ot down proof from sto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t least three ide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sis stat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in idea of your writing put into sent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99160" y="1600200"/>
            <a:ext cx="283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id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om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otes from tex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d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der of import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ronologi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ructu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author and name of work in introdu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writing a literary analys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present ten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3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person POV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summarize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not use contrac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not confuse author with characters or narra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pport what you state with evid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creative title that relates to your top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someone edit and proof read your wor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sis Stat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. First idea (First Perso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I. Second idea (imager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F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6:24:10Z</dcterms:created>
  <dc:creator>HansenSte</dc:creator>
  <dc:description/>
  <dc:language>en-US</dc:language>
  <cp:lastModifiedBy>HansenSte</cp:lastModifiedBy>
  <dcterms:modified xsi:type="dcterms:W3CDTF">2003-11-06T17:23:33Z</dcterms:modified>
  <cp:revision>8</cp:revision>
  <dc:subject/>
  <dc:title>Literar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